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B04-7805-4609-AF11-7BA8C137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161-5FDD-4397-878A-6C82D549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16C-5FB0-447F-9BD6-0066B246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EB2-2528-418C-A4FC-C1E13B9E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236-32FC-4738-BE74-E89917C9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EEB-08ED-4781-8D28-9D05A74A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B49-F5FC-454E-9745-8C83491E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DAD-764F-4B51-808D-B8CF0E1F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CCE-CCFB-48BB-8385-2E68381D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37C-EA58-483B-AAF6-7C1E688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698-DE92-406A-B051-39FF58FB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7DB-18D5-4281-AFCA-76393BB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5993-8544-4044-A654-9C061E138F4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숫자연습하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898989"/>
                </a:solidFill>
                <a:latin typeface="맑은 고딕"/>
              </a:rPr>
              <a:t>일본어로 </a:t>
            </a:r>
            <a:r>
              <a:rPr b="0" lang="en-US" sz="3200" spc="-1" strike="noStrike">
                <a:solidFill>
                  <a:srgbClr val="898989"/>
                </a:solidFill>
                <a:latin typeface="맑은 고딕"/>
              </a:rPr>
              <a:t>1</a:t>
            </a:r>
            <a:r>
              <a:rPr b="0" lang="ko-KR" sz="3200" spc="-1" strike="noStrike">
                <a:solidFill>
                  <a:srgbClr val="898989"/>
                </a:solidFill>
                <a:latin typeface="맑은 고딕"/>
              </a:rPr>
              <a:t>부터 </a:t>
            </a:r>
            <a:r>
              <a:rPr b="0" lang="en-US" sz="3200" spc="-1" strike="noStrike">
                <a:solidFill>
                  <a:srgbClr val="898989"/>
                </a:solidFill>
                <a:latin typeface="맑은 고딕"/>
              </a:rPr>
              <a:t>99</a:t>
            </a:r>
            <a:r>
              <a:rPr b="0" lang="ko-KR" sz="3200" spc="-1" strike="noStrike">
                <a:solidFill>
                  <a:srgbClr val="898989"/>
                </a:solidFill>
                <a:latin typeface="맑은 고딕"/>
              </a:rPr>
              <a:t>까지 말하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부터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까지 읽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356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まる、れい、ゼ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い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ろ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なな・し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さ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は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よん・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きゅう・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ご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じゅ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주의할 숫자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4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주로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よん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으로 읽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한자 死를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し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로 읽기 때문에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し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라고 발음하면 죽음을 떠올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9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주로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きゅう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로 읽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한자 苦를 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く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로 읽기 때문에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く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라고 발음하면 고통과 괴로움을 떠올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일본어로 말해보세요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　</a:t>
            </a: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010-4931-2875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→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まるいちまる</a:t>
            </a:r>
            <a:r>
              <a:rPr b="0" lang="ja-JP" sz="3000" spc="-1" strike="noStrike">
                <a:solidFill>
                  <a:srgbClr val="ff0000"/>
                </a:solidFill>
                <a:latin typeface="맑은 고딕"/>
                <a:ea typeface="MS PGothic"/>
              </a:rPr>
              <a:t>の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よんきゅうさんいち</a:t>
            </a:r>
            <a:r>
              <a:rPr b="0" lang="ja-JP" sz="3000" spc="-1" strike="noStrike">
                <a:solidFill>
                  <a:srgbClr val="ff0000"/>
                </a:solidFill>
                <a:latin typeface="맑은 고딕"/>
                <a:ea typeface="MS PGothic"/>
              </a:rPr>
              <a:t>の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にはちななご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０２－３６７－１４８６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→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まるにの　さんろくななの　いちよんはちろく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まるいちいちの　さんよんきゅうごの　にごさんろく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011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－３４９５－２５３６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3" name="직선 화살표 연결선 7"/>
          <p:cNvCxnSpPr/>
          <p:nvPr/>
        </p:nvCxnSpPr>
        <p:spPr>
          <a:xfrm>
            <a:off x="1763640" y="1916280"/>
            <a:ext cx="122472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그럼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부터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99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는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11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일→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じゅうい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12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じゅうに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20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십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 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にじゅう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25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십오 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にじゅう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99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구십구 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きゅうじゅうきゅう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일본어로 숫자읽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にじゅうろく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じゅうよん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さんじゅうなな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ごじゅうは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일본어로 숫자읽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ろくじゅうい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ななじゅう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はちじゅうは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06:12:40Z</dcterms:created>
  <dc:creator>user</dc:creator>
  <dc:description/>
  <dc:language>en-US</dc:language>
  <cp:lastModifiedBy>user</cp:lastModifiedBy>
  <dcterms:modified xsi:type="dcterms:W3CDTF">2011-11-02T06:06:07Z</dcterms:modified>
  <cp:revision>7</cp:revision>
  <dc:subject/>
  <dc:title>숫자연습하기</dc:title>
</cp:coreProperties>
</file>