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3E4-7EC3-46C7-A596-CB6DF449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19E-66C8-4005-88A5-31ED69C1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8D3-E1A8-4521-A249-05E248BF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D3AD-E4E8-4ED4-A2A5-D6F8FA64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ED9-5239-4FE0-BA74-50E23B89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AC4-B29A-4F96-A2D2-52151939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42C-9CD1-4189-89CE-2C5550DF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791-1AA0-44C6-A538-80D8832A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178-74E0-483C-B89D-A7CFC4A8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06F-C4B6-42F5-838A-B6885CA4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738-CDEF-4417-AFFB-AA985C3B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304-5959-4603-B8F0-857CF888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00B2-5E04-4582-A46A-AD55F596796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자료\ppt배경2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숫자연습하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898989"/>
                </a:solidFill>
                <a:latin typeface="맑은 고딕"/>
              </a:rPr>
              <a:t>일본어로 </a:t>
            </a:r>
            <a:r>
              <a:rPr b="0" lang="en-US" sz="3200" spc="-1" strike="noStrike">
                <a:solidFill>
                  <a:srgbClr val="898989"/>
                </a:solidFill>
                <a:latin typeface="맑은 고딕"/>
              </a:rPr>
              <a:t>1</a:t>
            </a:r>
            <a:r>
              <a:rPr b="0" lang="ko-KR" sz="3200" spc="-1" strike="noStrike">
                <a:solidFill>
                  <a:srgbClr val="898989"/>
                </a:solidFill>
                <a:latin typeface="맑은 고딕"/>
              </a:rPr>
              <a:t>부터 </a:t>
            </a:r>
            <a:r>
              <a:rPr b="0" lang="en-US" sz="3200" spc="-1" strike="noStrike">
                <a:solidFill>
                  <a:srgbClr val="898989"/>
                </a:solidFill>
                <a:latin typeface="맑은 고딕"/>
              </a:rPr>
              <a:t>99</a:t>
            </a:r>
            <a:r>
              <a:rPr b="0" lang="ko-KR" sz="3200" spc="-1" strike="noStrike">
                <a:solidFill>
                  <a:srgbClr val="898989"/>
                </a:solidFill>
                <a:latin typeface="맑은 고딕"/>
              </a:rPr>
              <a:t>까지 말하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자료\ppt배경2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부터 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10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까지 읽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356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まる、れい、ゼ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い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ろ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に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なな・し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さ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は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よん・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きゅう・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ご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맑은 고딕"/>
                          <a:ea typeface="MS PGothic"/>
                        </a:rPr>
                        <a:t>じゅ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자료\ppt배경2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주의할 숫자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4 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주로 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「よん」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으로 읽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한자 死를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「し」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로 읽기 때문에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「し」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라고 발음하면 죽음을 떠올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9 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주로 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「きゅう」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로 읽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한자 苦를  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「く」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로 읽기 때문에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「く」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라고 발음하면 고통과 괴로움을 떠올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자료\ppt배경2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일본어로 말해보세요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　　</a:t>
            </a:r>
            <a:r>
              <a:rPr b="0" lang="en-US" sz="3000" spc="-1" strike="noStrike">
                <a:solidFill>
                  <a:srgbClr val="000000"/>
                </a:solidFill>
                <a:latin typeface="맑은 고딕"/>
              </a:rPr>
              <a:t>010-4931-2875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맑은 고딕"/>
              </a:rPr>
              <a:t>→</a:t>
            </a: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まるいちまる</a:t>
            </a:r>
            <a:r>
              <a:rPr b="0" lang="ja-JP" sz="3000" spc="-1" strike="noStrike">
                <a:solidFill>
                  <a:srgbClr val="ff0000"/>
                </a:solidFill>
                <a:latin typeface="맑은 고딕"/>
                <a:ea typeface="MS PGothic"/>
              </a:rPr>
              <a:t>の</a:t>
            </a: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　よんきゅうさんいち</a:t>
            </a:r>
            <a:r>
              <a:rPr b="0" lang="ja-JP" sz="3000" spc="-1" strike="noStrike">
                <a:solidFill>
                  <a:srgbClr val="ff0000"/>
                </a:solidFill>
                <a:latin typeface="맑은 고딕"/>
                <a:ea typeface="MS PGothic"/>
              </a:rPr>
              <a:t>の</a:t>
            </a: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　にはちななご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　０２－３６７－１４８６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맑은 고딕"/>
              </a:rPr>
              <a:t>→</a:t>
            </a: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まるにの　さんろくななの　いちよんはちろく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まるいちいちの　さんよんきゅうごの　にごさんろく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맑은 고딕"/>
              </a:rPr>
              <a:t>→</a:t>
            </a:r>
            <a:r>
              <a:rPr b="0" lang="en-US" sz="3000" spc="-1" strike="noStrike">
                <a:solidFill>
                  <a:srgbClr val="000000"/>
                </a:solidFill>
                <a:latin typeface="맑은 고딕"/>
              </a:rPr>
              <a:t>011</a:t>
            </a:r>
            <a:r>
              <a:rPr b="0" lang="ja-JP" sz="3000" spc="-1" strike="noStrike">
                <a:solidFill>
                  <a:srgbClr val="000000"/>
                </a:solidFill>
                <a:latin typeface="맑은 고딕"/>
                <a:ea typeface="MS PGothic"/>
              </a:rPr>
              <a:t>－３４９５－２５３６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53" name="직선 화살표 연결선 7"/>
          <p:cNvCxnSpPr/>
          <p:nvPr/>
        </p:nvCxnSpPr>
        <p:spPr>
          <a:xfrm>
            <a:off x="1763640" y="1916280"/>
            <a:ext cx="122472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자료\ppt배경2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그럼 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11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부터 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99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는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11 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십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십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일→ 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じゅういち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12 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십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십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이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じゅうに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20 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이십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십 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にじゅう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25 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이십오 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にじゅう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99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구십구 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きゅうじゅうきゅう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자료\ppt배경2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일본어로 숫자읽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にじゅうろく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じゅうよん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さんじゅうなな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ごじゅうはち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자료\ppt배경2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일본어로 숫자읽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61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ろくじゅういち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ななじゅう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88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맑은 고딕"/>
                <a:ea typeface="MS PGothic"/>
              </a:rPr>
              <a:t>はちじゅうはち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06:12:40Z</dcterms:created>
  <dc:creator>user</dc:creator>
  <dc:description/>
  <dc:language>en-US</dc:language>
  <cp:lastModifiedBy>user</cp:lastModifiedBy>
  <dcterms:modified xsi:type="dcterms:W3CDTF">2011-11-02T06:06:07Z</dcterms:modified>
  <cp:revision>7</cp:revision>
  <dc:subject/>
  <dc:title>숫자연습하기</dc:title>
</cp:coreProperties>
</file>