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A92-3DB9-489A-A3FA-D43AC6A4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EAA-E63C-4993-979A-5F527D3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7AC-994F-4C2C-9909-856EAE7A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B15-7540-4BF9-94D3-54783A89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292-0989-444E-A5CC-CEAF348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66F-3AC9-48B4-A518-6E92F789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1B9-686B-42BD-B6D5-CC0DF228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F20-3640-4751-BAD6-91C9B740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78D-3E2B-4FA0-9527-04F68C5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BCC-6F26-4B42-A2DF-F7DE6B5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39B-FFAD-47EA-9A22-50B97A2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EF9-6249-4F6F-BBDE-C620BD9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049-AA94-4083-9A79-09202B71AF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ssphs_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457200"/>
            <a:ext cx="7619760" cy="1295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91120"/>
            <a:ext cx="487692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원미고등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황 정 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assphs_5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14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선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assphs_57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대청소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おおそうじ 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assphs_59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23880" y="8424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그 해 마지막 모밀국수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먹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5514800">
            <a:off x="380880" y="2133720"/>
            <a:ext cx="2895840" cy="2590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이것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먹으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오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산대요</a:t>
            </a: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assphs_55" descr=""/>
          <p:cNvPicPr/>
          <p:nvPr/>
        </p:nvPicPr>
        <p:blipFill>
          <a:blip r:embed="rId1"/>
          <a:stretch/>
        </p:blipFill>
        <p:spPr>
          <a:xfrm>
            <a:off x="1025640" y="139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망년회 </a:t>
            </a:r>
            <a:r>
              <a:rPr b="1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忘年會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assphs_60" descr=""/>
          <p:cNvPicPr/>
          <p:nvPr/>
        </p:nvPicPr>
        <p:blipFill>
          <a:blip r:embed="rId1"/>
          <a:stretch/>
        </p:blipFill>
        <p:spPr>
          <a:xfrm>
            <a:off x="1122480" y="137808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44400" y="8892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제야의 종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447920"/>
            <a:ext cx="3657600" cy="228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제야의 종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칩니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assphs_5" descr=""/>
          <p:cNvPicPr/>
          <p:nvPr/>
        </p:nvPicPr>
        <p:blipFill>
          <a:blip r:embed="rId1"/>
          <a:stretch/>
        </p:blipFill>
        <p:spPr>
          <a:xfrm>
            <a:off x="996840" y="1324080"/>
            <a:ext cx="7267680" cy="545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4560" y="88920"/>
            <a:ext cx="8001000" cy="10666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480"/>
            <a:ext cx="8153280" cy="114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 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일 천황생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848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월 말 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현재 천황인 헤이세이 천황의 생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크리스마스나 석가탄신일은 휴일이 아니지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은 국가의 공휴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에는 시민들이 천황의 생일을 축하하기 위하여 천황이 사는 궁에 모이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과 가족들은 시민들에게 인사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120"/>
            <a:ext cx="7772760" cy="100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일 천황 생일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천황생일1(오전)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80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91320"/>
            <a:ext cx="9144000" cy="1066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을 축하하기 위하여 모인 시민들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축하에 답례하는 천황일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천황생일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천황생일2(오후기첩)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 축하행사 방명록에 이름을 남기는 일본 시민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미리 예약을 해야 축하행사에 참여할 수 있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쇼우와천황(일제시대)" descr=""/>
          <p:cNvPicPr/>
          <p:nvPr/>
        </p:nvPicPr>
        <p:blipFill>
          <a:blip r:embed="rId1"/>
          <a:stretch/>
        </p:blipFill>
        <p:spPr>
          <a:xfrm>
            <a:off x="0" y="0"/>
            <a:ext cx="4856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0"/>
            <a:ext cx="4648320" cy="2514600"/>
          </a:xfrm>
          <a:prstGeom prst="cloudCallout">
            <a:avLst>
              <a:gd name="adj1" fmla="val -41907"/>
              <a:gd name="adj2" fmla="val 117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쇼우와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전 천황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헤이세천황3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4254480"/>
          </a:xfrm>
          <a:prstGeom prst="rect">
            <a:avLst/>
          </a:prstGeom>
          <a:ln w="0">
            <a:noFill/>
          </a:ln>
        </p:spPr>
      </p:pic>
      <p:pic>
        <p:nvPicPr>
          <p:cNvPr id="59" name="헤이세천화아2" descr=""/>
          <p:cNvPicPr/>
          <p:nvPr/>
        </p:nvPicPr>
        <p:blipFill>
          <a:blip r:embed="rId2"/>
          <a:stretch/>
        </p:blipFill>
        <p:spPr>
          <a:xfrm>
            <a:off x="914400" y="1090440"/>
            <a:ext cx="6324480" cy="4238640"/>
          </a:xfrm>
          <a:prstGeom prst="rect">
            <a:avLst/>
          </a:prstGeom>
          <a:ln w="0">
            <a:noFill/>
          </a:ln>
        </p:spPr>
      </p:pic>
      <p:pic>
        <p:nvPicPr>
          <p:cNvPr id="60" name="헤이세천황(현재)" descr=""/>
          <p:cNvPicPr/>
          <p:nvPr/>
        </p:nvPicPr>
        <p:blipFill>
          <a:blip r:embed="rId3"/>
          <a:stretch/>
        </p:blipFill>
        <p:spPr>
          <a:xfrm>
            <a:off x="2819520" y="2425680"/>
            <a:ext cx="6324480" cy="443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9920" y="0"/>
            <a:ext cx="3124080" cy="2362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현재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9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부터 다음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까지    일본은 연말연시 연휴에 들어간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 시기는 한 해를 마무리하고 새해를 준비하는 때이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가정에서는 집안을 대청소하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친지에게 감사의 선물을 보낸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41600" y="588960"/>
            <a:ext cx="7660800" cy="103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말 대청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おおそうじ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모밀국수 먹기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망년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忘年會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제야의 종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바탕"/>
                <a:ea typeface="MS Gothic"/>
              </a:rPr>
              <a:t>おおみそか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31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8:13:55Z</dcterms:created>
  <dc:creator>박선은</dc:creator>
  <dc:description/>
  <dc:language>en-US</dc:language>
  <cp:lastModifiedBy>황정민</cp:lastModifiedBy>
  <dcterms:modified xsi:type="dcterms:W3CDTF">2004-06-05T07:11:18Z</dcterms:modified>
  <cp:revision>13</cp:revision>
  <dc:subject/>
  <dc:title>설에 괴어 놓는 동글납작한 찰떡</dc:title>
</cp:coreProperties>
</file>