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6DA3-7630-45C6-9E9C-6F4EDC19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5694-500F-494D-990E-A85ECD3F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A8B2-AE62-4C66-8A5F-5E5B32F9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5E3-4E35-43B7-AA16-223BA50D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AC3A-F99A-491D-BC2B-C62DEB3D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3803-B720-42C8-8578-8A59192C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0ACF-705A-4AB6-9625-4B1CE51E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8E0E-1964-443D-9D6A-9F3EE420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02E1-2C33-4E3F-AFEA-E078C1A6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FE0C-0CBD-45DC-9D36-7CA0471E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4E9E-2DDA-4EFA-B639-BC5B371A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48B2-99D5-4F98-85CC-330E2D8C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DC16-7F1C-4BEC-86E7-28D10E39615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ssphs_6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120" y="457200"/>
            <a:ext cx="7619760" cy="12952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굴림"/>
              </a:rPr>
              <a:t>월의 연중행사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4191120"/>
            <a:ext cx="4876920" cy="1752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원미고등학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황 정 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5200" y="72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assphs_52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9480" y="4140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월 말 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歲暮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ja-JP" sz="4000" spc="-1" strike="noStrike">
                <a:solidFill>
                  <a:srgbClr val="000000"/>
                </a:solidFill>
                <a:latin typeface="바탕"/>
                <a:ea typeface="MS Gothic"/>
              </a:rPr>
              <a:t>せいぼ</a:t>
            </a:r>
            <a:r>
              <a:rPr b="1" lang="ja-JP" sz="4000" spc="-1" strike="noStrike">
                <a:solidFill>
                  <a:srgbClr val="000000"/>
                </a:solidFill>
                <a:latin typeface="바탕"/>
                <a:ea typeface="MS Gothic"/>
              </a:rPr>
              <a:t>) 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선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5200" y="72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0" name="assphs_57" descr=""/>
          <p:cNvPicPr/>
          <p:nvPr/>
        </p:nvPicPr>
        <p:blipFill>
          <a:blip r:embed="rId1"/>
          <a:stretch/>
        </p:blipFill>
        <p:spPr>
          <a:xfrm>
            <a:off x="971640" y="13572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09480" y="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굴림"/>
              </a:rPr>
              <a:t>대청소</a:t>
            </a:r>
            <a:r>
              <a:rPr b="0" lang="en-US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 おおそうじ </a:t>
            </a:r>
            <a:r>
              <a:rPr b="0" lang="en-US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大掃除</a:t>
            </a:r>
            <a:r>
              <a:rPr b="0" lang="en-US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5200" y="72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assphs_59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623880" y="8424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그 해 마지막 모밀국수 </a:t>
            </a:r>
            <a:r>
              <a:rPr b="1" lang="ko-KR" sz="4000" spc="-1" strike="noStrike">
                <a:solidFill>
                  <a:srgbClr val="000000"/>
                </a:solidFill>
                <a:latin typeface="MS Gothic"/>
                <a:ea typeface="MS Gothic"/>
              </a:rPr>
              <a:t>먹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年越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としこ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しそば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rot="15514800">
            <a:off x="380880" y="2133720"/>
            <a:ext cx="2895840" cy="2590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이것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먹으면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오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산대요</a:t>
            </a:r>
            <a:r>
              <a:rPr b="1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35200" y="72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" name="assphs_55" descr=""/>
          <p:cNvPicPr/>
          <p:nvPr/>
        </p:nvPicPr>
        <p:blipFill>
          <a:blip r:embed="rId1"/>
          <a:stretch/>
        </p:blipFill>
        <p:spPr>
          <a:xfrm>
            <a:off x="1025640" y="139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굴림"/>
              </a:rPr>
              <a:t>망년회 </a:t>
            </a:r>
            <a:r>
              <a:rPr b="1" lang="zh-CN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ぼうねんかい</a:t>
            </a: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굴림"/>
              </a:rPr>
              <a:t>忘年會</a:t>
            </a: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5200" y="72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" name="assphs_60" descr=""/>
          <p:cNvPicPr/>
          <p:nvPr/>
        </p:nvPicPr>
        <p:blipFill>
          <a:blip r:embed="rId1"/>
          <a:stretch/>
        </p:blipFill>
        <p:spPr>
          <a:xfrm>
            <a:off x="1122480" y="1378080"/>
            <a:ext cx="7086600" cy="5314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644400" y="8892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제야의 종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除夜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じょや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の鐘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かね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1447920"/>
            <a:ext cx="3657600" cy="2286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제야의 종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0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칩니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10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뇌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35200" y="72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assphs_5" descr=""/>
          <p:cNvPicPr/>
          <p:nvPr/>
        </p:nvPicPr>
        <p:blipFill>
          <a:blip r:embed="rId1"/>
          <a:stretch/>
        </p:blipFill>
        <p:spPr>
          <a:xfrm>
            <a:off x="996840" y="1324080"/>
            <a:ext cx="7267680" cy="5451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4560" y="88920"/>
            <a:ext cx="8001000" cy="10666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MS Gothic"/>
                <a:ea typeface="MS Gothic"/>
              </a:rPr>
              <a:t>연하장 </a:t>
            </a:r>
            <a:r>
              <a:rPr b="1" lang="ko-KR" sz="4000" spc="-1" strike="noStrike">
                <a:solidFill>
                  <a:srgbClr val="000000"/>
                </a:solidFill>
                <a:latin typeface="MS Gothic"/>
                <a:ea typeface="MS Gothic"/>
              </a:rPr>
              <a:t>: </a:t>
            </a:r>
            <a:r>
              <a:rPr b="1" lang="ko-KR" sz="4000" spc="-1" strike="noStrike">
                <a:solidFill>
                  <a:srgbClr val="000000"/>
                </a:solidFill>
                <a:latin typeface="MS Gothic"/>
                <a:ea typeface="MS Gothic"/>
              </a:rPr>
              <a:t>年賀狀</a:t>
            </a:r>
            <a:r>
              <a:rPr b="1" lang="ko-KR" sz="40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1" lang="ja-JP" sz="4000" spc="-1" strike="noStrike">
                <a:solidFill>
                  <a:srgbClr val="000000"/>
                </a:solidFill>
                <a:latin typeface="MS Gothic"/>
                <a:ea typeface="MS Gothic"/>
              </a:rPr>
              <a:t>ねんがじょう</a:t>
            </a:r>
            <a:r>
              <a:rPr b="1" lang="ja-JP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ff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609480"/>
            <a:ext cx="8153280" cy="11430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굴림"/>
              </a:rPr>
              <a:t>월의 연중 행사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286000"/>
            <a:ext cx="7543800" cy="182880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23</a:t>
            </a:r>
            <a:r>
              <a:rPr b="1" lang="zh-CN" sz="4000" spc="-1" strike="noStrike">
                <a:solidFill>
                  <a:srgbClr val="000000"/>
                </a:solidFill>
                <a:latin typeface="굴림"/>
              </a:rPr>
              <a:t>일 천황생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038480"/>
            <a:ext cx="7543800" cy="1828800"/>
          </a:xfrm>
          <a:prstGeom prst="horizontalScrol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월 말 歲暮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ja-JP" sz="4000" spc="-1" strike="noStrike">
                <a:solidFill>
                  <a:srgbClr val="000000"/>
                </a:solidFill>
                <a:latin typeface="바탕"/>
                <a:ea typeface="MS Gothic"/>
              </a:rPr>
              <a:t>せいぼ</a:t>
            </a:r>
            <a:r>
              <a:rPr b="1" lang="ja-JP" sz="4000" spc="-1" strike="noStrike">
                <a:solidFill>
                  <a:srgbClr val="000000"/>
                </a:solidFill>
                <a:latin typeface="바탕"/>
                <a:ea typeface="MS Gothic"/>
              </a:rPr>
              <a:t>)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현재 천황인 헤이세이 천황의 생일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크리스마스나 석가탄신일은 휴일이 아니지만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천황 생일은 국가의 공휴일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천황 생일에는 시민들이 천황의 생일을 축하하기 위하여 천황이 사는 궁에 모이고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천황과 가족들은 시민들에게 인사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09120"/>
            <a:ext cx="7772760" cy="1009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1" lang="en-US" sz="4800" spc="-1" strike="noStrike">
                <a:solidFill>
                  <a:srgbClr val="000000"/>
                </a:solidFill>
                <a:latin typeface="굴림"/>
              </a:rPr>
              <a:t>23</a:t>
            </a:r>
            <a:r>
              <a:rPr b="1" lang="zh-CN" sz="4800" spc="-1" strike="noStrike">
                <a:solidFill>
                  <a:srgbClr val="000000"/>
                </a:solidFill>
                <a:latin typeface="굴림"/>
              </a:rPr>
              <a:t>일 천황 생일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천황생일1(오전)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5808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5791320"/>
            <a:ext cx="9144000" cy="10666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천황생일을 축하하기 위하여 모인 시민들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축하에 답례하는 천황일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" name="천황생일2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0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천황생일2(오후기첩)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13716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천황생일 축하행사 방명록에 이름을 남기는 일본 시민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미리 예약을 해야 축하행사에 참여할 수 있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쇼우와천황(일제시대)" descr=""/>
          <p:cNvPicPr/>
          <p:nvPr/>
        </p:nvPicPr>
        <p:blipFill>
          <a:blip r:embed="rId1"/>
          <a:stretch/>
        </p:blipFill>
        <p:spPr>
          <a:xfrm>
            <a:off x="0" y="0"/>
            <a:ext cx="48560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00600" y="0"/>
            <a:ext cx="4648320" cy="2514600"/>
          </a:xfrm>
          <a:prstGeom prst="cloudCallout">
            <a:avLst>
              <a:gd name="adj1" fmla="val -41907"/>
              <a:gd name="adj2" fmla="val 11729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쇼우와 천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이전 천황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헤이세천황3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4254480"/>
          </a:xfrm>
          <a:prstGeom prst="rect">
            <a:avLst/>
          </a:prstGeom>
          <a:ln w="0">
            <a:noFill/>
          </a:ln>
        </p:spPr>
      </p:pic>
      <p:pic>
        <p:nvPicPr>
          <p:cNvPr id="59" name="헤이세천화아2" descr=""/>
          <p:cNvPicPr/>
          <p:nvPr/>
        </p:nvPicPr>
        <p:blipFill>
          <a:blip r:embed="rId2"/>
          <a:stretch/>
        </p:blipFill>
        <p:spPr>
          <a:xfrm>
            <a:off x="914400" y="1090440"/>
            <a:ext cx="6324480" cy="4238640"/>
          </a:xfrm>
          <a:prstGeom prst="rect">
            <a:avLst/>
          </a:prstGeom>
          <a:ln w="0">
            <a:noFill/>
          </a:ln>
        </p:spPr>
      </p:pic>
      <p:pic>
        <p:nvPicPr>
          <p:cNvPr id="60" name="헤이세천황(현재)" descr=""/>
          <p:cNvPicPr/>
          <p:nvPr/>
        </p:nvPicPr>
        <p:blipFill>
          <a:blip r:embed="rId3"/>
          <a:stretch/>
        </p:blipFill>
        <p:spPr>
          <a:xfrm>
            <a:off x="2819520" y="2425680"/>
            <a:ext cx="6324480" cy="4432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19920" y="0"/>
            <a:ext cx="3124080" cy="23623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현재 천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29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일부터 다음해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일까지    일본은 연말연시 연휴에 들어간다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160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160920" indent="-16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이 시기는 한 해를 마무리하고 새해를 준비하는 때이다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160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160920" indent="-16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가정에서는 집안을 대청소하고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친지에게 감사의 선물을 보낸다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41600" y="588960"/>
            <a:ext cx="7660800" cy="103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월 말 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歲暮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ja-JP" sz="4000" spc="-1" strike="noStrike">
                <a:solidFill>
                  <a:srgbClr val="000000"/>
                </a:solidFill>
                <a:latin typeface="바탕"/>
                <a:ea typeface="MS Gothic"/>
              </a:rPr>
              <a:t>せいぼ</a:t>
            </a:r>
            <a:r>
              <a:rPr b="1" lang="ja-JP" sz="4000" spc="-1" strike="noStrike">
                <a:solidFill>
                  <a:srgbClr val="000000"/>
                </a:solidFill>
                <a:latin typeface="바탕"/>
                <a:ea typeface="MS Gothic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연말 대청소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: </a:t>
            </a:r>
            <a:r>
              <a:rPr b="1" lang="ja-JP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大掃除</a:t>
            </a:r>
            <a:r>
              <a:rPr b="1" lang="ja-JP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1" lang="ja-JP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おおそうじ</a:t>
            </a:r>
            <a:r>
              <a:rPr b="1" lang="ja-JP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모밀국수 먹기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: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年越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としこ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しそ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망년회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: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忘年會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ぼうねんかい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제야의 종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: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除夜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じょや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の鐘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かね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2001"/>
              </a:spcBef>
              <a:buClr>
                <a:srgbClr val="0000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연하장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: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年賀狀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1" lang="ja-JP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ねんがじょう</a:t>
            </a:r>
            <a:r>
              <a:rPr b="1" lang="ja-JP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41600" y="664920"/>
            <a:ext cx="7660800" cy="103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바탕"/>
                <a:ea typeface="MS Gothic"/>
              </a:rPr>
              <a:t>おおみそか</a:t>
            </a: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(12</a:t>
            </a: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31</a:t>
            </a: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08:13:55Z</dcterms:created>
  <dc:creator>박선은</dc:creator>
  <dc:description/>
  <dc:language>en-US</dc:language>
  <cp:lastModifiedBy>황정민</cp:lastModifiedBy>
  <dcterms:modified xsi:type="dcterms:W3CDTF">2004-06-05T07:11:18Z</dcterms:modified>
  <cp:revision>13</cp:revision>
  <dc:subject/>
  <dc:title>설에 괴어 놓는 동글납작한 찰떡</dc:title>
</cp:coreProperties>
</file>