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939CA-4A0E-453F-A440-737A1D728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16D26-89E2-4CE3-9467-F4562ED6B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D7BBA-6EA5-44B3-A11C-180F0A405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5ED32-03E2-446F-BB08-37B541FA4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1052F-01EC-4F46-97E0-D1FE5DC47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1C6C8-A4FC-4D0A-8B30-4C114FC8E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9405C-86AE-426B-8CA9-08957BACF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C5BA0-F673-47F3-A8AF-18BEC3712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CD183-F62B-4B5A-B06A-BA53987A6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B5581-FD0A-464D-A147-5949404E5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42B3A-523F-4C5A-A76C-3A3EE4D39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EA8BB-A123-493C-BC29-630EC65B8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FCBCB-39D3-4334-A8C8-50FE52E47CF5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굴림"/>
                <a:ea typeface="ＭＳ Ｐゴシック"/>
              </a:rPr>
              <a:t>日本地図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본 지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amp;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본 주요도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332000" y="0"/>
            <a:ext cx="640872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6156360" y="2205000"/>
            <a:ext cx="2592360" cy="719280"/>
          </a:xfrm>
          <a:prstGeom prst="borderCallout1">
            <a:avLst>
              <a:gd name="adj1" fmla="val 18750"/>
              <a:gd name="adj2" fmla="val -8333"/>
              <a:gd name="adj3" fmla="val 174615"/>
              <a:gd name="adj4" fmla="val -290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굴림"/>
                <a:ea typeface="ＭＳ Ｐゴシック"/>
              </a:rPr>
              <a:t>とうきょう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"/>
          <p:cNvSpPr/>
          <p:nvPr/>
        </p:nvSpPr>
        <p:spPr>
          <a:xfrm>
            <a:off x="5292720" y="4653000"/>
            <a:ext cx="2374920" cy="754200"/>
          </a:xfrm>
          <a:prstGeom prst="borderCallout1">
            <a:avLst>
              <a:gd name="adj1" fmla="val 18750"/>
              <a:gd name="adj2" fmla="val -8333"/>
              <a:gd name="adj3" fmla="val -102314"/>
              <a:gd name="adj4" fmla="val -409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굴림"/>
                <a:ea typeface="ＭＳ Ｐゴシック"/>
              </a:rPr>
              <a:t>おおさか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"/>
          <p:cNvSpPr/>
          <p:nvPr/>
        </p:nvSpPr>
        <p:spPr>
          <a:xfrm>
            <a:off x="1619280" y="2492280"/>
            <a:ext cx="2016000" cy="720720"/>
          </a:xfrm>
          <a:prstGeom prst="borderCallout1">
            <a:avLst>
              <a:gd name="adj1" fmla="val 18750"/>
              <a:gd name="adj2" fmla="val -8333"/>
              <a:gd name="adj3" fmla="val 169824"/>
              <a:gd name="adj4" fmla="val 15243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굴림"/>
                <a:ea typeface="ＭＳ Ｐゴシック"/>
              </a:rPr>
              <a:t>なごや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"/>
          <p:cNvSpPr/>
          <p:nvPr/>
        </p:nvSpPr>
        <p:spPr>
          <a:xfrm>
            <a:off x="1835280" y="836640"/>
            <a:ext cx="2449440" cy="720720"/>
          </a:xfrm>
          <a:prstGeom prst="borderCallout1">
            <a:avLst>
              <a:gd name="adj1" fmla="val 18750"/>
              <a:gd name="adj2" fmla="val -8333"/>
              <a:gd name="adj3" fmla="val 87884"/>
              <a:gd name="adj4" fmla="val 13518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굴림"/>
                <a:ea typeface="ＭＳ Ｐゴシック"/>
              </a:rPr>
              <a:t>さっぽろ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"/>
          <p:cNvSpPr/>
          <p:nvPr/>
        </p:nvSpPr>
        <p:spPr>
          <a:xfrm>
            <a:off x="324000" y="3789360"/>
            <a:ext cx="2232000" cy="719280"/>
          </a:xfrm>
          <a:prstGeom prst="borderCallout1">
            <a:avLst>
              <a:gd name="adj1" fmla="val 18750"/>
              <a:gd name="adj2" fmla="val -8333"/>
              <a:gd name="adj3" fmla="val 77481"/>
              <a:gd name="adj4" fmla="val 12005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굴림"/>
                <a:ea typeface="ＭＳ Ｐゴシック"/>
              </a:rPr>
              <a:t>ふくおか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1T23:53:59Z</dcterms:created>
  <dc:creator>jeju</dc:creator>
  <dc:description/>
  <dc:language>en-US</dc:language>
  <cp:lastModifiedBy>/</cp:lastModifiedBy>
  <dcterms:modified xsi:type="dcterms:W3CDTF">2011-03-22T10:22:30Z</dcterms:modified>
  <cp:revision>3</cp:revision>
  <dc:subject/>
  <dc:title>日本地図</dc:title>
</cp:coreProperties>
</file>