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3EE2-FB48-48D6-9FD0-A3105114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D4B2-C001-45E9-8971-40A69428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3A4F-B199-43E2-8D78-F7B6C197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DC11-8382-46B6-BA1C-868E01253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E6F-1885-4CE0-A6D5-1C13DAF3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ACD-8366-4325-957C-D45B795A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7850-BE04-4D35-AC99-3B3AECB8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4DD-C2C9-42A8-A7F2-C752C7D6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D90-B50D-4817-816D-34B963AA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E994-6BDE-4E24-911A-C32EDFA2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20A4-C4B3-4028-8272-3FC814BB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9D9C-7D1C-44DD-BE07-D9D61619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03CC-1669-4AD0-B817-7B8F9D74E60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굴림"/>
                <a:ea typeface="ＭＳ Ｐゴシック"/>
              </a:rPr>
              <a:t>日本地図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본 지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본 주요도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4087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56360" y="2205000"/>
            <a:ext cx="2592360" cy="719280"/>
          </a:xfrm>
          <a:prstGeom prst="borderCallout1">
            <a:avLst>
              <a:gd name="adj1" fmla="val 18750"/>
              <a:gd name="adj2" fmla="val -8333"/>
              <a:gd name="adj3" fmla="val 174615"/>
              <a:gd name="adj4" fmla="val -29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굴림"/>
                <a:ea typeface="ＭＳ Ｐゴシック"/>
              </a:rPr>
              <a:t>とうきょう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5292720" y="4653000"/>
            <a:ext cx="2374920" cy="754200"/>
          </a:xfrm>
          <a:prstGeom prst="borderCallout1">
            <a:avLst>
              <a:gd name="adj1" fmla="val 18750"/>
              <a:gd name="adj2" fmla="val -8333"/>
              <a:gd name="adj3" fmla="val -102314"/>
              <a:gd name="adj4" fmla="val -40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굴림"/>
                <a:ea typeface="ＭＳ Ｐゴシック"/>
              </a:rPr>
              <a:t>おおさか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1619280" y="2492280"/>
            <a:ext cx="2016000" cy="720720"/>
          </a:xfrm>
          <a:prstGeom prst="borderCallout1">
            <a:avLst>
              <a:gd name="adj1" fmla="val 18750"/>
              <a:gd name="adj2" fmla="val -8333"/>
              <a:gd name="adj3" fmla="val 169824"/>
              <a:gd name="adj4" fmla="val 152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굴림"/>
                <a:ea typeface="ＭＳ Ｐゴシック"/>
              </a:rPr>
              <a:t>なご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1835280" y="836640"/>
            <a:ext cx="2449440" cy="720720"/>
          </a:xfrm>
          <a:prstGeom prst="borderCallout1">
            <a:avLst>
              <a:gd name="adj1" fmla="val 18750"/>
              <a:gd name="adj2" fmla="val -8333"/>
              <a:gd name="adj3" fmla="val 87884"/>
              <a:gd name="adj4" fmla="val 1351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굴림"/>
                <a:ea typeface="ＭＳ Ｐゴシック"/>
              </a:rPr>
              <a:t>さっぽろ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3789360"/>
            <a:ext cx="2232000" cy="719280"/>
          </a:xfrm>
          <a:prstGeom prst="borderCallout1">
            <a:avLst>
              <a:gd name="adj1" fmla="val 18750"/>
              <a:gd name="adj2" fmla="val -8333"/>
              <a:gd name="adj3" fmla="val 77481"/>
              <a:gd name="adj4" fmla="val 1200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굴림"/>
                <a:ea typeface="ＭＳ Ｐゴシック"/>
              </a:rPr>
              <a:t>ふくおか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23:53:59Z</dcterms:created>
  <dc:creator>jeju</dc:creator>
  <dc:description/>
  <dc:language>en-US</dc:language>
  <cp:lastModifiedBy>/</cp:lastModifiedBy>
  <dcterms:modified xsi:type="dcterms:W3CDTF">2011-03-22T10:22:30Z</dcterms:modified>
  <cp:revision>3</cp:revision>
  <dc:subject/>
  <dc:title>日本地図</dc:title>
</cp:coreProperties>
</file>