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128-AC35-4204-99DC-F134AECE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F80-7445-4B45-9055-56BFA86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313-09C3-4F68-A1D1-F65CF11E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EB1-7BE6-46C1-8497-2D926662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DB2-E581-41AF-B871-8430B4E6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C62-DF04-40E5-9FDA-0F38435A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763-219C-40F6-9681-DAE8C928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45E-92B4-40BC-8258-B9FE2996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2AC-4BD0-4659-B92D-B8F5AFFA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E22-A435-484E-BFA0-16AAB87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B6F-0A9E-4026-AF0A-C748022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CFA-DBBA-4689-A5C1-78681F7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8FB-ACF6-4CB4-9140-C7FC0A9973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ssphs_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457200"/>
            <a:ext cx="7619760" cy="1295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91120"/>
            <a:ext cx="487692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원미고등학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황 정 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assphs_5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414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선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assphs_57" descr=""/>
          <p:cNvPicPr/>
          <p:nvPr/>
        </p:nvPicPr>
        <p:blipFill>
          <a:blip r:embed="rId1"/>
          <a:stretch/>
        </p:blipFill>
        <p:spPr>
          <a:xfrm>
            <a:off x="971640" y="13572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대청소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おおそうじ 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0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assphs_59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623880" y="8424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그 해 마지막 모밀국수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먹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rot="15514800">
            <a:off x="380880" y="2133720"/>
            <a:ext cx="2895840" cy="2590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이것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먹으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오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돋움"/>
                <a:ea typeface="돋움"/>
              </a:rPr>
              <a:t>산대요</a:t>
            </a:r>
            <a:r>
              <a:rPr b="1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assphs_55" descr=""/>
          <p:cNvPicPr/>
          <p:nvPr/>
        </p:nvPicPr>
        <p:blipFill>
          <a:blip r:embed="rId1"/>
          <a:stretch/>
        </p:blipFill>
        <p:spPr>
          <a:xfrm>
            <a:off x="1025640" y="139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망년회 </a:t>
            </a:r>
            <a:r>
              <a:rPr b="1" lang="zh-CN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忘年會</a:t>
            </a: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assphs_60" descr=""/>
          <p:cNvPicPr/>
          <p:nvPr/>
        </p:nvPicPr>
        <p:blipFill>
          <a:blip r:embed="rId1"/>
          <a:stretch/>
        </p:blipFill>
        <p:spPr>
          <a:xfrm>
            <a:off x="1122480" y="137808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44400" y="8892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제야의 종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0" lang="ko-KR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447920"/>
            <a:ext cx="3657600" cy="228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제야의 종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칩니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10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뇌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520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assphs_5" descr=""/>
          <p:cNvPicPr/>
          <p:nvPr/>
        </p:nvPicPr>
        <p:blipFill>
          <a:blip r:embed="rId1"/>
          <a:stretch/>
        </p:blipFill>
        <p:spPr>
          <a:xfrm>
            <a:off x="996840" y="1324080"/>
            <a:ext cx="7267680" cy="5451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4560" y="88920"/>
            <a:ext cx="8001000" cy="10666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480"/>
            <a:ext cx="8153280" cy="114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의 연중 행사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굴림"/>
              </a:rPr>
              <a:t>일 천황생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8480"/>
            <a:ext cx="7543800" cy="182880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월 말 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현재 천황인 헤이세이 천황의 생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크리스마스나 석가탄신일은 휴일이 아니지만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은 국가의 공휴일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 생일에는 시민들이 천황의 생일을 축하하기 위하여 천황이 사는 궁에 모이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천황과 가족들은 시민들에게 인사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120"/>
            <a:ext cx="7772760" cy="100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4800" spc="-1" strike="noStrike">
                <a:solidFill>
                  <a:srgbClr val="000000"/>
                </a:solidFill>
                <a:latin typeface="굴림"/>
              </a:rPr>
              <a:t>23</a:t>
            </a:r>
            <a:r>
              <a:rPr b="1" lang="zh-CN" sz="4800" spc="-1" strike="noStrike">
                <a:solidFill>
                  <a:srgbClr val="000000"/>
                </a:solidFill>
                <a:latin typeface="굴림"/>
              </a:rPr>
              <a:t>일 천황 생일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천황생일1(오전)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580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91320"/>
            <a:ext cx="9144000" cy="1066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을 축하하기 위하여 모인 시민들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축하에 답례하는 천황일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천황생일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천황생일2(오후기첩)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천황생일 축하행사 방명록에 이름을 남기는 일본 시민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미리 예약을 해야 축하행사에 참여할 수 있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쇼우와천황(일제시대)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0"/>
            <a:ext cx="4648320" cy="2514600"/>
          </a:xfrm>
          <a:prstGeom prst="cloudCallout">
            <a:avLst>
              <a:gd name="adj1" fmla="val -41907"/>
              <a:gd name="adj2" fmla="val 117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쇼우와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전 천황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헤이세천황3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4254480"/>
          </a:xfrm>
          <a:prstGeom prst="rect">
            <a:avLst/>
          </a:prstGeom>
          <a:ln w="0">
            <a:noFill/>
          </a:ln>
        </p:spPr>
      </p:pic>
      <p:pic>
        <p:nvPicPr>
          <p:cNvPr id="59" name="헤이세천화아2" descr=""/>
          <p:cNvPicPr/>
          <p:nvPr/>
        </p:nvPicPr>
        <p:blipFill>
          <a:blip r:embed="rId2"/>
          <a:stretch/>
        </p:blipFill>
        <p:spPr>
          <a:xfrm>
            <a:off x="914400" y="1090440"/>
            <a:ext cx="632448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헤이세천황(현재)" descr=""/>
          <p:cNvPicPr/>
          <p:nvPr/>
        </p:nvPicPr>
        <p:blipFill>
          <a:blip r:embed="rId3"/>
          <a:stretch/>
        </p:blipFill>
        <p:spPr>
          <a:xfrm>
            <a:off x="2819520" y="2425680"/>
            <a:ext cx="6324480" cy="443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9920" y="0"/>
            <a:ext cx="312408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현재 천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29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부터 다음해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까지    일본은 연말연시 연휴에 들어간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이 시기는 한 해를 마무리하고 새해를 준비하는 때이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160920" indent="-16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가정에서는 집안을 대청소하고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친지에게 감사의 선물을 보낸다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41600" y="588960"/>
            <a:ext cx="7660800" cy="103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말 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歲暮</a:t>
            </a: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せいぼ</a:t>
            </a:r>
            <a:r>
              <a:rPr b="1" lang="ja-JP" sz="4000" spc="-1" strike="noStrike">
                <a:solidFill>
                  <a:srgbClr val="000000"/>
                </a:solidFill>
                <a:latin typeface="바탕"/>
                <a:ea typeface="MS Goth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말 대청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大掃除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おおそうじ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모밀국수 먹기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年越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としこ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しそ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망년회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忘年會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ぼうねんか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제야의 종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除夜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じょや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の鐘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かね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2001"/>
              </a:spcBef>
              <a:buClr>
                <a:srgbClr val="000000"/>
              </a:buClr>
              <a:buFont typeface="M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연하장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年賀狀</a:t>
            </a:r>
            <a:r>
              <a:rPr b="1" lang="ko-KR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ねんがじょう</a:t>
            </a:r>
            <a:r>
              <a:rPr b="1" lang="ja-JP" sz="32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000000"/>
                </a:solidFill>
                <a:latin typeface="바탕"/>
                <a:ea typeface="MS Gothic"/>
              </a:rPr>
              <a:t>おおみそか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8:13:55Z</dcterms:created>
  <dc:creator>박선은</dc:creator>
  <dc:description/>
  <dc:language>en-US</dc:language>
  <cp:lastModifiedBy>황정민</cp:lastModifiedBy>
  <dcterms:modified xsi:type="dcterms:W3CDTF">2004-06-05T07:11:18Z</dcterms:modified>
  <cp:revision>13</cp:revision>
  <dc:subject/>
  <dc:title>설에 괴어 놓는 동글납작한 찰떡</dc:title>
</cp:coreProperties>
</file>